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CFD1A-DD70-4066-AFD2-1B61F9527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A4106-E3A4-4A3A-9A15-3A170FCBE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77A4A-E702-4C0B-818A-305790623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E432B-11A5-4F7A-B72F-E50B7572A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C1BE5-1CEC-485B-AC4D-1D67B761A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5EFE3-8032-4725-A9D6-6C8A4C05C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A8467-6CDF-40DA-A05C-F0BBC96B9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8B3B0-410F-4D4E-AD51-E0514D696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0FE36-FFD7-4994-B680-4C186AFB4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948FA-933C-4B53-94D7-35B11C717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804C5-6C1F-4B44-9930-601389CA7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70CD3-FA63-43F0-A57A-DB3BD7A34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4F81D-8F8F-419C-AA16-9F64AFEF146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1000080" y="1473120"/>
            <a:ext cx="3541680" cy="474192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"/>
          <p:cNvPicPr/>
          <p:nvPr/>
        </p:nvPicPr>
        <p:blipFill>
          <a:blip r:embed="rId2"/>
          <a:stretch/>
        </p:blipFill>
        <p:spPr>
          <a:xfrm>
            <a:off x="4786200" y="1473120"/>
            <a:ext cx="3500640" cy="468648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Our 2011 plann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"/>
          <p:cNvPicPr/>
          <p:nvPr/>
        </p:nvPicPr>
        <p:blipFill>
          <a:blip r:embed="rId1"/>
          <a:srcRect l="53518" t="38283" r="33009" b="33887"/>
          <a:stretch/>
        </p:blipFill>
        <p:spPr>
          <a:xfrm>
            <a:off x="309600" y="1785960"/>
            <a:ext cx="2357280" cy="38941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rcRect l="19532" t="44141" r="59376" b="20703"/>
          <a:stretch/>
        </p:blipFill>
        <p:spPr>
          <a:xfrm>
            <a:off x="2881440" y="2071800"/>
            <a:ext cx="2571480" cy="34290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Some typography &amp; a colour reference which I lik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6" descr=""/>
          <p:cNvPicPr/>
          <p:nvPr/>
        </p:nvPicPr>
        <p:blipFill>
          <a:blip r:embed="rId3"/>
          <a:srcRect l="41604" t="14650" r="25001" b="52394"/>
          <a:stretch/>
        </p:blipFill>
        <p:spPr>
          <a:xfrm>
            <a:off x="5643720" y="2000160"/>
            <a:ext cx="3166920" cy="25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2T03:58:22Z</dcterms:created>
  <dc:creator>nicholasl</dc:creator>
  <dc:description/>
  <dc:language>en-US</dc:language>
  <cp:lastModifiedBy>nicholasl</cp:lastModifiedBy>
  <dcterms:modified xsi:type="dcterms:W3CDTF">2011-11-22T04:04:00Z</dcterms:modified>
  <cp:revision>2</cp:revision>
  <dc:subject/>
  <dc:title>Our 2011 planner</dc:title>
</cp:coreProperties>
</file>